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7F4-1934-4A3B-956D-7E1045D0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CD8-7057-49E0-9B49-586464A1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C48-5E79-4ADE-9BB8-F6806C51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AEF-31C4-4A09-8454-24A6E784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976-E7F6-465F-A1D1-0C14B176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1F5-B81A-47B5-BBF5-D0C252D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4BB-5238-4E7A-A22D-78B28275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C51-FC48-4855-AAA0-7FBC0FB5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12B-6627-46D5-A0A7-F4091236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247-3BE4-460F-ADC8-E2C2562C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21B-E0E0-4D84-A136-063C4F4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8D1-AFE7-49EC-8107-32F64F4A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AE49-2196-4BD7-8793-03B17F19E2E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my\My Documents\My stuff\My Pictures\pictures\coooool!!!!!.jpg"/>
          <p:cNvPicPr/>
          <p:nvPr/>
        </p:nvPicPr>
        <p:blipFill>
          <a:blip r:embed="rId1"/>
          <a:stretch/>
        </p:blipFill>
        <p:spPr>
          <a:xfrm>
            <a:off x="-208080" y="-158760"/>
            <a:ext cx="9663120" cy="725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roadway"/>
              </a:rPr>
              <a:t>Space</a:t>
            </a:r>
            <a:r>
              <a:rPr b="0" lang="en-US" sz="4400" spc="-1" strike="noStrike">
                <a:solidFill>
                  <a:srgbClr val="ffff00"/>
                </a:solidFill>
                <a:latin typeface="Broadwa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ll MT"/>
              </a:rPr>
              <a:t>By Ben But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they dif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6984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6984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://beyondthestarsastrology.files.wordpress.com/2010/01/planets.jpg"/>
          <p:cNvPicPr/>
          <p:nvPr/>
        </p:nvPicPr>
        <p:blipFill>
          <a:blip r:embed="rId1"/>
          <a:stretch/>
        </p:blipFill>
        <p:spPr>
          <a:xfrm>
            <a:off x="457200" y="2133720"/>
            <a:ext cx="4686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ght Y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ne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used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a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6984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http://www.rlrouse.com/astronomy/light-year.gif"/>
          <p:cNvPicPr/>
          <p:nvPr/>
        </p:nvPicPr>
        <p:blipFill>
          <a:blip r:embed="rId1"/>
          <a:stretch/>
        </p:blipFill>
        <p:spPr>
          <a:xfrm>
            <a:off x="2438280" y="1828800"/>
            <a:ext cx="5842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fe Cycle of a Mid-sized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http://t0.gstatic.com/images?q=tbn:ANd9GcTfBc7H-XEdZLAjS8zimrRJoGobsYjiEUqLmC1c4eStChlrGI0-&amp;t=1"/>
          <p:cNvPicPr/>
          <p:nvPr/>
        </p:nvPicPr>
        <p:blipFill>
          <a:blip r:embed="rId1"/>
          <a:stretch/>
        </p:blipFill>
        <p:spPr>
          <a:xfrm>
            <a:off x="0" y="2620800"/>
            <a:ext cx="9144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tel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s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t sta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http://www.nhn.ou.edu/~jeffery/astro/constellation/constellation_north.gif"/>
          <p:cNvPicPr/>
          <p:nvPr/>
        </p:nvPicPr>
        <p:blipFill>
          <a:blip r:embed="rId1"/>
          <a:stretch/>
        </p:blipFill>
        <p:spPr>
          <a:xfrm>
            <a:off x="2971800" y="1600200"/>
            <a:ext cx="5533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240" y="1905120"/>
            <a:ext cx="213372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 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6600" y="460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66600" y="460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Sun_3D_Screensaver-screenshot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905120" y="12193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240" y="1600200"/>
            <a:ext cx="2133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ways it mo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MOon"/>
          <p:cNvPicPr/>
          <p:nvPr/>
        </p:nvPicPr>
        <p:blipFill>
          <a:blip r:embed="rId1"/>
          <a:stretch/>
        </p:blipFill>
        <p:spPr>
          <a:xfrm>
            <a:off x="2133720" y="1143000"/>
            <a:ext cx="52480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ight and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it happ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3143160" y="262908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daynight-pixarshort-firstlook-fullsize-300x168"/>
          <p:cNvPicPr/>
          <p:nvPr/>
        </p:nvPicPr>
        <p:blipFill>
          <a:blip r:embed="rId1"/>
          <a:stretch/>
        </p:blipFill>
        <p:spPr>
          <a:xfrm>
            <a:off x="1295280" y="1828800"/>
            <a:ext cx="70106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a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838080"/>
            <a:ext cx="2133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they ha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4seasons"/>
          <p:cNvPicPr/>
          <p:nvPr/>
        </p:nvPicPr>
        <p:blipFill>
          <a:blip r:embed="rId1"/>
          <a:stretch/>
        </p:blipFill>
        <p:spPr>
          <a:xfrm>
            <a:off x="2590920" y="1447920"/>
            <a:ext cx="48290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ar Eclip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it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SEDiagram1c"/>
          <p:cNvPicPr/>
          <p:nvPr/>
        </p:nvPicPr>
        <p:blipFill>
          <a:blip r:embed="rId1"/>
          <a:stretch/>
        </p:blipFill>
        <p:spPr>
          <a:xfrm>
            <a:off x="1143000" y="2130480"/>
            <a:ext cx="67057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ala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600200"/>
            <a:ext cx="1752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http://t0.gstatic.com/images?q=tbn:ANd9GcSOTj9P0Y2CstJmeQavkDOF1sv4K81yQ9uHSKgK5n2Gcy8AWM09NA"/>
          <p:cNvPicPr/>
          <p:nvPr/>
        </p:nvPicPr>
        <p:blipFill>
          <a:blip r:embed="rId1"/>
          <a:stretch/>
        </p:blipFill>
        <p:spPr>
          <a:xfrm>
            <a:off x="1981080" y="1600200"/>
            <a:ext cx="655344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ilky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ttp://t2.gstatic.com/images?q=tbn:ANd9GcQYAsrfLzSgmZkgS5fYE9AVSoqBubw7mFqu3sQx1ikhHIkAi1KO"/>
          <p:cNvPicPr/>
          <p:nvPr/>
        </p:nvPicPr>
        <p:blipFill>
          <a:blip r:embed="rId1"/>
          <a:stretch/>
        </p:blipFill>
        <p:spPr>
          <a:xfrm>
            <a:off x="2819520" y="1523880"/>
            <a:ext cx="51051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teroids and Com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t0.gstatic.com/images?q=tbn:ANd9GcQ_zAiH8hYnsvRt0WEglXS18NZIimLv5gNVUtopYE5QDBYaKA4scB7J-wo0"/>
          <p:cNvPicPr/>
          <p:nvPr/>
        </p:nvPicPr>
        <p:blipFill>
          <a:blip r:embed="rId1"/>
          <a:stretch/>
        </p:blipFill>
        <p:spPr>
          <a:xfrm>
            <a:off x="1066680" y="228600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/>
          <p:cNvSpPr/>
          <p:nvPr/>
        </p:nvSpPr>
        <p:spPr>
          <a:xfrm>
            <a:off x="69840" y="-669960"/>
            <a:ext cx="10476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69840" y="-669960"/>
            <a:ext cx="10476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http://www.crystalinks.com/cometsky.jpg"/>
          <p:cNvPicPr/>
          <p:nvPr/>
        </p:nvPicPr>
        <p:blipFill>
          <a:blip r:embed="rId2"/>
          <a:stretch/>
        </p:blipFill>
        <p:spPr>
          <a:xfrm>
            <a:off x="5257800" y="1660680"/>
            <a:ext cx="38862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5-23T14:48:29Z</dcterms:modified>
  <cp:revision>4</cp:revision>
  <dc:subject/>
  <dc:title>Space </dc:title>
</cp:coreProperties>
</file>